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ED0-F069-476F-A9B8-AB4205EE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B5F-1666-43F2-A0E8-B8E24EF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DD6-BA47-4313-95E9-5E5740D5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453-1747-43B9-B3FB-771253FB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DE12-655F-46D0-A817-3F061CF1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F079-412C-461A-B2C8-4441137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94FC-9BE8-4104-84A8-319B0765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03A-D5FB-4862-930C-96F84365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DA78-A328-4E08-91F2-F51FC02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200B-D011-479F-A57C-0EE1C97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FDE-66A5-49AB-8274-8555288C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05E-11ED-42C8-A934-D9BEDC91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B526-1C26-4097-BAC8-0B13B20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CB69-7E98-45D5-BF86-E3ED82F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0E1-3F4D-42D9-87BE-FBD116D4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2131-AEBA-45FD-88F2-CC38A861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7144-DA3E-4FDE-B64A-509D1C60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C07-59DA-42A1-80CD-DE391DA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E68-0DD3-4131-99BC-275463D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D5C-68EB-4144-84F8-36DC3B4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F0E-B739-4B43-A39C-6B1F0B6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7EB-7CF0-4FC0-B770-488141E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AEB-52B6-4A25-89D0-A79C060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1B7-1A17-4484-A781-57EF95F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8DF-0964-4B8B-9AF9-0CE78FF38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70CE-FA6A-4D4C-8805-C93B47C8A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627280" y="189000"/>
            <a:ext cx="388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4822920" y="176940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т мы руки разве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но удивили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друг другу до зем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яс поклонили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ились, выпрям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ились, выпрям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е, дети, поклоните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ленитесь, улыбните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20501400">
            <a:off x="1476000" y="3357360"/>
            <a:ext cx="2914560" cy="3068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119412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олела нас дремо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евельнуться неох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-ка, делайте со мн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 тако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рх, вниз, потяни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нчательно просн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08720" y="2565360"/>
            <a:ext cx="3384360" cy="122400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144000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93080" y="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148360" y="5084640"/>
            <a:ext cx="995400" cy="100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084720" y="386064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0" y="4005360"/>
            <a:ext cx="1154160" cy="123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85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rot="309000">
            <a:off x="6372360" y="57337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779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 rot="11193600">
            <a:off x="1908000" y="59558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85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7444440" y="458856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rot="16447800">
            <a:off x="172440" y="2499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5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245160" y="556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rot="200400">
            <a:off x="1907640" y="404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2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 rot="11010600">
            <a:off x="3635280" y="403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59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 rot="1230600">
            <a:off x="572400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41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rot="6169800">
            <a:off x="7661520" y="113076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rot="6169800">
            <a:off x="7661520" y="2572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3276720" y="2492280"/>
            <a:ext cx="1441440" cy="1419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 rot="7628400">
            <a:off x="1574280" y="2249280"/>
            <a:ext cx="1143000" cy="105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Текст 2" descr=""/>
          <p:cNvPicPr/>
          <p:nvPr/>
        </p:nvPicPr>
        <p:blipFill>
          <a:blip r:embed="rId13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1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2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1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3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4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17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46:40Z</dcterms:created>
  <dc:creator>Федотова Виктория Александровна</dc:creator>
  <dc:description/>
  <dc:language>en-US</dc:language>
  <cp:lastModifiedBy>WORK</cp:lastModifiedBy>
  <dcterms:modified xsi:type="dcterms:W3CDTF">2012-11-18T16:49:28Z</dcterms:modified>
  <cp:revision>16</cp:revision>
  <dc:subject/>
  <dc:title>Слайд 1</dc:title>
</cp:coreProperties>
</file>